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BA1B5-2DC7-469C-B1C5-AB43C2583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2162F-7AF9-4CE8-8B27-B2AA3B527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F81EC-325F-4FC1-8813-402914C21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49696-45A2-46A9-9FA0-FF3B1C82B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C1A37-859C-4300-AD0D-370309B62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A7E30-73A6-4BD1-8584-A5EF7CEAC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11157-A934-4662-9853-292279FFB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A83F1-4F9A-4663-BED2-288B52467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7A349-353D-4A47-B14A-DCDCDAD2B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D8C32-CF90-4517-9CAE-F5D9752BA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76618-6F16-4E25-9E89-0BC6B0E53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AF346-3CCA-4D6F-97A4-58FBFFA37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3824F-486E-4998-88D3-A5EF687AB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C88DA-E60E-4A0C-A794-039AADFFC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B9757-67C3-4F4E-B69D-8E4F010D6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27761D-6529-4F4D-855E-0DE5418BAE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E39A9-EA44-4F22-B125-7B06AC9F7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DD2D1-FFE3-442A-B7A6-4B9DAB85E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5D675-10D1-4452-9C34-C84B2C3BA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64CD2-B03F-40A7-9B13-BCB91D004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71EE4-4FBC-4E73-A118-D51272DFC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CE115-1129-45DA-9374-CC7F27150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9E6E2-C061-47BA-9328-E5CF35977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BF569-850C-487E-A20A-F714732D6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1E820-E39B-4783-A0EC-3012EC9A79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B888-4DB3-4CDD-A6F7-70E723E1BD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Saving Money</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ertificates of Deposit (CD)</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anchor="t">
            <a:normAutofit fontScale="91000"/>
          </a:bodyPr>
          <a:p>
            <a:pPr marL="312120" indent="-31212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ertificate of deposit is an agreement between the saver and the bank or credit union.</a:t>
            </a:r>
            <a:endParaRPr b="0" lang="en-US" sz="2800" spc="-1" strike="noStrike">
              <a:solidFill>
                <a:srgbClr val="ffffff"/>
              </a:solidFill>
              <a:latin typeface="Arial"/>
            </a:endParaRPr>
          </a:p>
          <a:p>
            <a:pPr marL="312120" indent="-31212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nk or credit union pays interest on the money in the CD for an agreed upon amount of time.</a:t>
            </a:r>
            <a:endParaRPr b="0" lang="en-US" sz="2800" spc="-1" strike="noStrike">
              <a:solidFill>
                <a:srgbClr val="ffffff"/>
              </a:solidFill>
              <a:latin typeface="Arial"/>
            </a:endParaRPr>
          </a:p>
          <a:p>
            <a:pPr marL="312120" indent="-31212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onger the term, the higher the interest rate that is paid.</a:t>
            </a:r>
            <a:endParaRPr b="0" lang="en-US" sz="2800" spc="-1" strike="noStrike">
              <a:solidFill>
                <a:srgbClr val="ffffff"/>
              </a:solidFill>
              <a:latin typeface="Arial"/>
            </a:endParaRPr>
          </a:p>
          <a:p>
            <a:pPr marL="312120" indent="-31212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mary drawback to a certificate of deposit is that some of the earned interest is forfeited if the money is withdrawn before the agreed upon 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nterest from Bank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talk more in detail about all of the services that banks provide at a later date. </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it is important for us to understand the reasons that banks pay customers interest on the money that they have in their savings accounts, money market accounts, and their certificates of depos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ntinued</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ks pay interest to customers for the usage of their money.</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ks will take the majority of these deposits (banks must keep a percentage of these deposits as reserves) and loan them out to other customers for mortgages, cars, school loans, businesses, etc…</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est charged for these loans is greater than the interest that is paid to customers on their savings, money market accounts, and certificates of deposit.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the primary way that banks make mone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inal Words About Savings Accounts</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s should use savings accounts, money market accounts, and/or certificates of deposit to save for emergencies and/or short-term financial goal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ney is safe and will be there when you need it.</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est rates paid on these accounts is typically much lower than what you would receive by investing your money. That is why it is appropriate to invest your money for longer-term financial goals.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the interest rates paid on these accounts typically does not keep pace with the rate of infl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does it mean to save money?</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ving means putting some of your money away for emergencies and/or short-term (less than one year) financial goal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ey that is saved for an emergency and/or  short-term goals should be placed where there is very little risk of your money losing its value.</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you don’t want to assume too much risk when saving your money, the rate of interest that you receive is typically very low.</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ntinued</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447920"/>
            <a:ext cx="8007480" cy="4952880"/>
          </a:xfrm>
          <a:prstGeom prst="rect">
            <a:avLst/>
          </a:prstGeom>
          <a:noFill/>
          <a:ln w="0">
            <a:noFill/>
          </a:ln>
        </p:spPr>
        <p:txBody>
          <a:bodyPr anchor="t">
            <a:normAutofit fontScale="99000"/>
          </a:bodyPr>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ey that is saved for an emergency and/or a short-term financial purpose should be easily and readily accessible.</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talk about investing money later in this unit. </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see that investing money is typically for longer-term financial goals and involves greater financial risk than putting money in savings. However, investing money can also lead to much greater potential financial rewards.</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ntinued</a:t>
            </a:r>
            <a:endParaRPr b="1" lang="en-US" sz="4400" spc="-1" strike="noStrike">
              <a:solidFill>
                <a:srgbClr val="ffffb7"/>
              </a:solidFill>
              <a:latin typeface="Arial Black"/>
            </a:endParaRPr>
          </a:p>
        </p:txBody>
      </p:sp>
      <p:sp>
        <p:nvSpPr>
          <p:cNvPr id="105" name="PlaceHolder 2"/>
          <p:cNvSpPr>
            <a:spLocks noGrp="1"/>
          </p:cNvSpPr>
          <p:nvPr>
            <p:ph/>
          </p:nvPr>
        </p:nvSpPr>
        <p:spPr>
          <a:xfrm>
            <a:off x="762120" y="1523520"/>
            <a:ext cx="8007120" cy="4953240"/>
          </a:xfrm>
          <a:prstGeom prst="rect">
            <a:avLst/>
          </a:prstGeom>
          <a:noFill/>
          <a:ln w="0">
            <a:noFill/>
          </a:ln>
        </p:spPr>
        <p:txBody>
          <a:bodyPr anchor="t">
            <a:normAutofit fontScale="99000"/>
          </a:bodyPr>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important to understand that the amount of time that you have until you need your money is crucial when deciding whether that money should be saved or invested. </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horter the time period that you have until you need the money the more likely that putting your money in savings and avoiding risk is the appropriate course of action.</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nger the time period that you have until you need the money the more likely that investing your money is the appropriate course of action. This is because you do not need the money immediately so you can assume more risk and potentially earn a greater rate of return.</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ill study risk and return in more detail when we talk about investing mone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ay Yourself First Rule (Savings)</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arguably the most important financial rule that we will talk about in personal finance.</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ever you receive money you should immediately put a certain amount into an account that you will set aside to use later to meet your short-term financial goal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talk more about the “Pay Yourself First Rule” when we talk about investing money for longer term financial go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ypes of Savings Instruments</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next few slides we are going to talk about some of the most common places where people save their mone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includ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s Account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ey market account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rtificates of depos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avings Accounts</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r bank or credit union savings accounts are the most common places where people save their money.</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also typically the first banking product that people us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ey in savings accounts is guaranteed by the federal government (up to $250,000).</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re is virtually no risk associated with a bank or credit union savings account, the rate of interest paid is very l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avings Accounts Continued</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ney is easily accessible and can be withdrawn at any time with no penalt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typically a very low minimum balance that is required to open and maintain a savings account at a bank or a credit un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ney Market Accounts</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operate similarly to a savings account and are offered by both banks and credit unions. One of the key differences is that you typically have limited check writing privilege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ey market accounts typically pay slightly higher interest rates than regular savings accounts. The difference is that money market accounts usually have a much higher minimum balance required to open and maintain the account.</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ey market accounts at banks and credit unions are also insured by the govern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1T16:42:04Z</dcterms:created>
  <dc:creator>default</dc:creator>
  <dc:description/>
  <dc:language>en-US</dc:language>
  <cp:lastModifiedBy>default</cp:lastModifiedBy>
  <dcterms:modified xsi:type="dcterms:W3CDTF">2010-02-24T19:50:17Z</dcterms:modified>
  <cp:revision>47</cp:revision>
  <dc:subject/>
  <dc:title>Saving, Investing, and Pearls of Financial Wisdom</dc:title>
</cp:coreProperties>
</file>